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gif" ContentType="image/gif"/>
  <Override PartName="/ppt/media/image2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28.wmf" ContentType="image/x-wmf"/>
  <Override PartName="/ppt/media/image10.png" ContentType="image/png"/>
  <Override PartName="/ppt/media/image12.png" ContentType="image/png"/>
  <Override PartName="/ppt/media/image20.jpeg" ContentType="image/jpeg"/>
  <Override PartName="/ppt/media/image13.png" ContentType="image/png"/>
  <Override PartName="/ppt/media/image30.gif" ContentType="image/gif"/>
  <Override PartName="/ppt/media/image31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.png" ContentType="image/png"/>
  <Override PartName="/ppt/media/image19.gif" ContentType="image/gif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21.png" ContentType="image/pn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451-7E92-4140-842B-51D2F18C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503B-1404-49E7-B777-72560CC6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C072-02C5-4C46-A92F-2E68C01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F3E-7271-4BC9-9354-240E5CB4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FE3-5049-4DA0-9EC8-E2A27095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779B-2051-4988-AEAF-BFF81F74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5AD2-6AB6-469C-9EF6-85807DA3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BC6-226B-468B-B688-DBD7CE46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A4C7-D37D-409C-B056-4552D41E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0F68-8306-49CF-950F-17D8127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FD5-4C91-4D4D-AA52-62404FFF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3F2-F18D-4236-A729-568E4FA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AC0D-AFA9-4B47-BF49-4A5287EF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wm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1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12.pn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4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16.pn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50920" y="5229360"/>
            <a:ext cx="3600720" cy="1315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451640" y="404640"/>
            <a:ext cx="1490760" cy="259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50920" y="5084640"/>
            <a:ext cx="1396800" cy="146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333360"/>
            <a:ext cx="72010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Îmi plac desenele animate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n epoca de piatră până azi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140360" y="2997360"/>
            <a:ext cx="2090520" cy="223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300720" y="4005360"/>
            <a:ext cx="2521080" cy="2170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2556000" y="2997360"/>
            <a:ext cx="123660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826920" y="3284640"/>
            <a:ext cx="12481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2206440" cy="2793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50920" y="836640"/>
            <a:ext cx="8424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 ghicit unde a fos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innie în vacanţă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76720" y="2708280"/>
            <a:ext cx="4465440" cy="3583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203640" y="3933720"/>
            <a:ext cx="187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a  mar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ircl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Întors  în  pădure, Winnie  i-a  lăsat  un  mesaj  scris  prietenului  său, Bugs  Bun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372360" y="1773360"/>
            <a:ext cx="2487600" cy="345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356000" y="836640"/>
            <a:ext cx="2041560" cy="5616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6920" y="3429000"/>
            <a:ext cx="360072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Pentru că  nu  îi  plăcea  să  citească,iepuraşul  a  turnat  un  pahar  cu  apă  pe  foaie, iar  acum  nu  se  înţelege  ce  a  scris  ursuleţul. Încearcă  tu  să  refaci  mesajul</a:t>
            </a:r>
            <a:r>
              <a:rPr b="1" lang="ro-RO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Monotype Corsiva"/>
              </a:rPr>
              <a:t>Dragă  iepuraşul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u  am  fost  în  vacanţă  la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A  fost  foarte……………..Razele  soarelui………….Apa  mării……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 fiecare  zi………………….A  fost  bine, dar  mi-a  lipsit………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2592360" cy="2178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4.  Iată  ce  a  povestit  odată  ciocănitoarea  Woo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ra  toamna  târziu. Copacii  se  goliseră  de  frunze, dar  în  vârful  unui  măr  sălbatic mai  atârna  un  măr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epuraşul  îşi  dorea  să  ia  mărul, dar  nu  reuşi. O  rugă  pe  Tweety  să  îl  ia. Tweety  luă  mărul  dar  acesta  căzu  pe  spatele  unui  arici.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riat, ariciul  fugi  cu  mărul  în  spinare. Iepuraşul  îi  ceru  ariciului  să-i  dea  mărul, dar  acesta  spuse  că  mărul  e  al  lui. Tweety  dorea  şi  el  măr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581960" y="189000"/>
            <a:ext cx="1562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580000" y="476280"/>
            <a:ext cx="3005280" cy="561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4887720" cy="4755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411280" y="1484280"/>
            <a:ext cx="1236960" cy="1295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340000" y="4005360"/>
            <a:ext cx="2808360" cy="1832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3995640" y="620640"/>
            <a:ext cx="2016360" cy="1706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 flipH="1">
            <a:off x="3634920" y="3573360"/>
            <a:ext cx="949320" cy="993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Pune  în  ordine  propoziţiile  pentru  a  reface  dialogul  dintre  Bugs  Bunny, Tweety  şi  aric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14716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Eu am rupt mărul din pom,deci e al meu! zise Twe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Tweety,rupe-mi măr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Stai!Stai!Unde fugi cu mărul m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Poft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ărul e al meu!Eu l-am prins!ţipă arici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ulţumesc!răspunse iepuraş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ată  răspunsul  corec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Tweety,rupe-mi măru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Pofti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ulţumesc!răspunse iepuraş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Stai!Stai!Unde fugi cu mărul m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Mărul e al meu!Eu l-am prins!ţipă arici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-Eu am rupt mărul din pom,deci e al meu! zise Twe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000" y="333360"/>
            <a:ext cx="504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entru că nu se înţelegea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-au chemat ursul Yogi să facă drept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Cine a descoperit măr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Eu!spuse iepure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Dar cine l-a rupt din p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Fireşte că eu!ciripi Twe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Bine!Şi cine l-a pri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Eu l-am prins!a zis arici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Eeeei,zise ursul,toţi aveţi dreptate.Ce-ar fi să împărţim mărul în părţi eg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51640" y="404640"/>
            <a:ext cx="3224160" cy="3700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148360" y="429264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Şi astfel fiecare prim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o bucăţică de măr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şi rămaseră prieten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ână azi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6000" y="5877000"/>
            <a:ext cx="2951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alizator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nst.Diana Lădari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843280" y="189000"/>
            <a:ext cx="4033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CURS</a:t>
            </a:r>
            <a:endParaRPr b="0" lang="en-US" sz="1800" spc="1" strike="noStrike">
              <a:ln w="1260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133720"/>
            <a:ext cx="7993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1.Cum comunică oamenii între ei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230640" cy="2630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148360" y="4365720"/>
            <a:ext cx="3311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in mesaje,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formaţi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5640" y="1197000"/>
            <a:ext cx="7705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.Cum se realizează comunicarea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3311640" cy="305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924360" y="3645000"/>
            <a:ext cx="4103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in  vorbire (oral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au  prin  scri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836640"/>
            <a:ext cx="85579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3.Cum se numeş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el care transmite informaţia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9640" y="2637000"/>
            <a:ext cx="3073680" cy="3887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0" y="3357720"/>
            <a:ext cx="338472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miţător  sa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vorbito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16000" y="476280"/>
            <a:ext cx="6769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4.Cum se numeş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el care primeşte informaţia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4205160" cy="3957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219640" y="3789360"/>
            <a:ext cx="338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ceptor sa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scultător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170496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692360" y="476280"/>
            <a:ext cx="595764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5.Ce este dialogul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476800" cy="4178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708360" y="3860640"/>
            <a:ext cx="51832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ialogul es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nvorbirea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intre două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au mai  multe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ersoan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heel spokes="3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Monotype Corsiva"/>
              </a:rPr>
              <a:t>Chip  şi  Dale  s-au  certat. Fiecare  dintre  ei  consideră  că   a  transmis  un  mesaj  corect. Ajută-i  tu  să  se  împace,spunându-le  care  este  mesajul  co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1514520" cy="2038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2050920" y="3357720"/>
            <a:ext cx="303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uminică  seara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451640" y="4653000"/>
            <a:ext cx="1390680" cy="1962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4000" y="5661000"/>
            <a:ext cx="619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uminică seara voi merge la circ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ll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71640" y="333360"/>
            <a:ext cx="69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ăspunsul corect era..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64000" y="2637000"/>
            <a:ext cx="194292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RAVO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4724280"/>
            <a:ext cx="49687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i reuşit să-i împaci</a:t>
            </a:r>
            <a:endParaRPr b="0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867280" y="2924280"/>
            <a:ext cx="2727360" cy="3527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ccff66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14716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Comic Sans MS"/>
              </a:rPr>
              <a:t>Ursuleţul Winnie va pleca în vacanţă. E foarte fericit,dar e prima oară când iese din pădure. Povesteşte-i tu cum e în vacanţă,dându-i câte o informaţie despre nisip,plajă,m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59280" y="3933720"/>
            <a:ext cx="2219040" cy="2664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20:22:07Z</dcterms:created>
  <dc:creator>Diana</dc:creator>
  <dc:description/>
  <dc:language>en-US</dc:language>
  <cp:lastModifiedBy>Diana</cp:lastModifiedBy>
  <dcterms:modified xsi:type="dcterms:W3CDTF">2008-10-26T16:58:54Z</dcterms:modified>
  <cp:revision>4</cp:revision>
  <dc:subject/>
  <dc:title>Diapozitivul 1</dc:title>
</cp:coreProperties>
</file>